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png" ContentType="image/png"/>
  <Override PartName="/ppt/media/image16.wmf" ContentType="image/x-wmf"/>
  <Override PartName="/ppt/media/image15.png" ContentType="image/png"/>
  <Override PartName="/ppt/media/image5.jpeg" ContentType="image/jpe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14.wmf" ContentType="image/x-wmf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CAA2-8DFF-49D1-87D3-276A6D2BD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9EC5-BE2E-4EDA-A8FC-F71E1FCC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0C2E-8376-4BEF-90BC-2A1D8EB4F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3AE7-FB8A-447B-8F92-2DBBED04A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B835-C40B-445A-91F2-179B42993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88AC-3FE9-42B6-9F45-15F16F67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FBC5E-BD36-4779-A181-33D5F48A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DC22-3806-4E63-83A6-8C4AD4A8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81AB-3015-4062-B01E-D155D70A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579D-6806-4175-8894-2BF90412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4FB9-4768-4048-B1AF-B6851921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7431-C7A5-40B4-9A7A-3F63BCE8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3D71-04FB-4857-8054-696D3763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D4D1-491F-47DC-9401-E836CFA1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F469-854C-40B7-AA01-9AD87B91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569F-3638-433C-8D4F-27DB39C41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7FD2-B7ED-4DE7-AE31-12A543EA3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AF021-2E16-4E21-9AD3-2CBFB48BD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2DBEE-63CF-4B40-8D2B-306D170A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9D5B5-3548-4DD9-B271-C706C406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125D5-3E85-4F83-BB8A-7ECF33CC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AD128-F221-4BC6-8A23-8D1FFEB7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D267-C56B-48BC-AF7E-C4AAF19B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2FE54-EEED-49D1-9A91-E0EDCD98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2506E-0A61-40F5-8041-D00234E8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878C0-DDD2-4732-8501-599416E0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AD33B-428D-4326-8719-82E107F9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E7883-D139-4CD1-BE2F-95051737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F147E-EF35-41F6-9C08-94AD5CDD3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7512B-E07A-4B14-986F-9AFB243B5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195EC-0AF4-4D1C-AD3C-10D49B56F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ED679-0778-412D-92DF-65121203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33ACE-D16C-4E82-8D1C-E400811A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E5C7-3517-4F73-88CD-11010631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5E2A6-91A8-472E-A256-A5B24641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C0EDE-29BB-41FF-8CE6-8E5652CD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8FBD6-0F94-406E-82C3-A5A7F38C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810CA-ED49-4995-9E82-B3A99839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B647D-26A4-403A-871E-8178C8CD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1A4A5-C186-443C-B8E0-43679F7C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0C00F-AB8F-4E16-AB55-3C17E87D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E03A1-0BFD-47C1-A791-7518D6005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C36A1-5B8C-4519-9514-48226268E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B5A4F-0AA1-448C-80FC-894165FC0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9676-5B0B-4CE4-BF34-2DBC9E0E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E5DBB-ADE2-4316-9BE6-BD90E972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E4AA6-C534-4D74-8929-887E5E1C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38910-604E-4804-A3AC-B9947FE9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88652-6079-4D6B-9AAD-6907985C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B2FB4-F0C8-489D-8DF1-973A47B5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AF6AD-C98F-41B1-B7A0-F651DCFB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9B809-5555-48B9-80C9-712D23EC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D65FC-C3B8-436A-8AAB-D8289B65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1FD45-8A17-44B8-817C-CC877939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B20C8-4F94-4AA4-9703-BDDFCCFA7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1C09-5B38-4A5B-944C-FA672699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250AE-C2FC-48AA-A672-1BD8E41C2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E557-D3AC-4DA0-BFC5-E36E6DCF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A863-F835-4A8E-9E9E-B958A39D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114D-544E-4C3F-9261-D28EAD2A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1b4b7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891F-B54E-4FB6-B796-443DB5AC03A2}" type="slidenum">
              <a:rPr b="0" lang="en-US" sz="1000" spc="-1" strike="noStrike">
                <a:solidFill>
                  <a:srgbClr val="a1b4b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1b4b7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EF6F-B228-4465-9C9A-9DE2901495FE}" type="slidenum">
              <a:rPr b="0" lang="en-US" sz="1000" spc="-1" strike="noStrike">
                <a:solidFill>
                  <a:srgbClr val="a1b4b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1b4b7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02FF-FCC2-4288-A342-8930A13F1C76}" type="slidenum">
              <a:rPr b="0" lang="en-US" sz="1000" spc="-1" strike="noStrike">
                <a:solidFill>
                  <a:srgbClr val="a1b4b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1b4b7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C535-477A-4328-9522-4241E4FCF836}" type="slidenum">
              <a:rPr b="0" lang="en-US" sz="1000" spc="-1" strike="noStrike">
                <a:solidFill>
                  <a:srgbClr val="a1b4b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1b4b7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7DE7-E62B-4FF1-8904-BA4FA1DDAD81}" type="slidenum">
              <a:rPr b="0" lang="en-US" sz="1000" spc="-1" strike="noStrike">
                <a:solidFill>
                  <a:srgbClr val="a1b4b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ompara  y  Contrasta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pic>
        <p:nvPicPr>
          <p:cNvPr id="221" name="Picture 3" descr="grafico - gianna1m.JPG"/>
          <p:cNvPicPr/>
          <p:nvPr/>
        </p:nvPicPr>
        <p:blipFill>
          <a:blip r:embed="rId1"/>
          <a:srcRect l="0" t="37779" r="0" b="10511"/>
          <a:stretch/>
        </p:blipFill>
        <p:spPr>
          <a:xfrm>
            <a:off x="0" y="1523880"/>
            <a:ext cx="4419720" cy="36831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grafico - parker1mc.JPG"/>
          <p:cNvPicPr/>
          <p:nvPr/>
        </p:nvPicPr>
        <p:blipFill>
          <a:blip r:embed="rId2"/>
          <a:srcRect l="-391" t="38892" r="1350" b="10948"/>
          <a:stretch/>
        </p:blipFill>
        <p:spPr>
          <a:xfrm>
            <a:off x="4495680" y="1523880"/>
            <a:ext cx="4648320" cy="3657600"/>
          </a:xfrm>
          <a:prstGeom prst="rect">
            <a:avLst/>
          </a:prstGeom>
          <a:ln w="0">
            <a:noFill/>
          </a:ln>
        </p:spPr>
      </p:pic>
      <p:pic>
        <p:nvPicPr>
          <p:cNvPr id="223" name="Rectangle 5" descr=""/>
          <p:cNvPicPr/>
          <p:nvPr/>
        </p:nvPicPr>
        <p:blipFill>
          <a:blip r:embed="rId3"/>
          <a:stretch/>
        </p:blipFill>
        <p:spPr>
          <a:xfrm>
            <a:off x="1584360" y="5284800"/>
            <a:ext cx="1231920" cy="457200"/>
          </a:xfrm>
          <a:prstGeom prst="rect">
            <a:avLst/>
          </a:prstGeom>
          <a:ln w="0">
            <a:noFill/>
          </a:ln>
        </p:spPr>
      </p:pic>
      <p:pic>
        <p:nvPicPr>
          <p:cNvPr id="224" name="Rectangle 6" descr=""/>
          <p:cNvPicPr/>
          <p:nvPr/>
        </p:nvPicPr>
        <p:blipFill>
          <a:blip r:embed="rId4"/>
          <a:stretch/>
        </p:blipFill>
        <p:spPr>
          <a:xfrm>
            <a:off x="5937120" y="5284800"/>
            <a:ext cx="18352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705720" y="0"/>
            <a:ext cx="223992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1 Miller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pic>
        <p:nvPicPr>
          <p:cNvPr id="226" name="Picture 2" descr="grafico - gianna1m.JPG"/>
          <p:cNvPicPr/>
          <p:nvPr/>
        </p:nvPicPr>
        <p:blipFill>
          <a:blip r:embed="rId1"/>
          <a:srcRect l="0" t="37780" r="0" b="10516"/>
          <a:stretch/>
        </p:blipFill>
        <p:spPr>
          <a:xfrm>
            <a:off x="2711520" y="2057400"/>
            <a:ext cx="6432480" cy="4800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grafico - gianna1m.JPG"/>
          <p:cNvPicPr/>
          <p:nvPr/>
        </p:nvPicPr>
        <p:blipFill>
          <a:blip r:embed="rId2"/>
          <a:srcRect l="0" t="0" r="2255" b="62224"/>
          <a:stretch/>
        </p:blipFill>
        <p:spPr>
          <a:xfrm>
            <a:off x="0" y="0"/>
            <a:ext cx="3873600" cy="2057400"/>
          </a:xfrm>
          <a:prstGeom prst="rect">
            <a:avLst/>
          </a:prstGeom>
          <a:ln w="0">
            <a:noFill/>
          </a:ln>
        </p:spPr>
      </p:pic>
      <p:pic>
        <p:nvPicPr>
          <p:cNvPr id="228" name="color mas popular 1m.MP3" descr=""/>
          <p:cNvPicPr/>
          <p:nvPr/>
        </p:nvPicPr>
        <p:blipFill>
          <a:blip r:embed="rId3"/>
          <a:stretch/>
        </p:blipFill>
        <p:spPr>
          <a:xfrm>
            <a:off x="0" y="24382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29" name="TextBox 5"/>
          <p:cNvSpPr/>
          <p:nvPr/>
        </p:nvSpPr>
        <p:spPr>
          <a:xfrm>
            <a:off x="304920" y="236232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la clase de Mrs. Mill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oj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s el color mas pop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color verde 1m.MP3" descr=""/>
          <p:cNvPicPr/>
          <p:nvPr/>
        </p:nvPicPr>
        <p:blipFill>
          <a:blip r:embed="rId4"/>
          <a:stretch/>
        </p:blipFill>
        <p:spPr>
          <a:xfrm>
            <a:off x="0" y="3733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1" name="TextBox 7"/>
          <p:cNvSpPr/>
          <p:nvPr/>
        </p:nvSpPr>
        <p:spPr>
          <a:xfrm>
            <a:off x="380880" y="365760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estudiantes 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sta 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ver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8"/>
          <p:cNvSpPr/>
          <p:nvPr/>
        </p:nvSpPr>
        <p:spPr>
          <a:xfrm>
            <a:off x="457200" y="518148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estudiante 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sta neg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color negro 1m.MP3" descr=""/>
          <p:cNvPicPr/>
          <p:nvPr/>
        </p:nvPicPr>
        <p:blipFill>
          <a:blip r:embed="rId5"/>
          <a:stretch/>
        </p:blipFill>
        <p:spPr>
          <a:xfrm>
            <a:off x="0" y="54100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856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6272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9088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25744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1 McGroarty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pic>
        <p:nvPicPr>
          <p:cNvPr id="235" name="Picture 3" descr="grafico - parker1mc.JPG"/>
          <p:cNvPicPr/>
          <p:nvPr/>
        </p:nvPicPr>
        <p:blipFill>
          <a:blip r:embed="rId1"/>
          <a:srcRect l="-397" t="38888" r="0" b="10947"/>
          <a:stretch/>
        </p:blipFill>
        <p:spPr>
          <a:xfrm>
            <a:off x="2592360" y="2133720"/>
            <a:ext cx="6551640" cy="4724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grafico - parker1mc.JPG"/>
          <p:cNvPicPr/>
          <p:nvPr/>
        </p:nvPicPr>
        <p:blipFill>
          <a:blip r:embed="rId2"/>
          <a:srcRect l="0" t="0" r="7238" b="62225"/>
          <a:stretch/>
        </p:blipFill>
        <p:spPr>
          <a:xfrm>
            <a:off x="0" y="0"/>
            <a:ext cx="4083120" cy="2286000"/>
          </a:xfrm>
          <a:prstGeom prst="rect">
            <a:avLst/>
          </a:prstGeom>
          <a:ln w="0">
            <a:noFill/>
          </a:ln>
        </p:spPr>
      </p:pic>
      <p:sp>
        <p:nvSpPr>
          <p:cNvPr id="237" name="TextBox 5"/>
          <p:cNvSpPr/>
          <p:nvPr/>
        </p:nvSpPr>
        <p:spPr>
          <a:xfrm>
            <a:off x="304920" y="2362320"/>
            <a:ext cx="4190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la clase de M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cGroarty los col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 populares s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ojo,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verd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azul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morado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rosado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colores populares 1mc.MP3" descr=""/>
          <p:cNvPicPr/>
          <p:nvPr/>
        </p:nvPicPr>
        <p:blipFill>
          <a:blip r:embed="rId3"/>
          <a:stretch/>
        </p:blipFill>
        <p:spPr>
          <a:xfrm>
            <a:off x="0" y="2819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9" name="TextBox 7"/>
          <p:cNvSpPr/>
          <p:nvPr/>
        </p:nvSpPr>
        <p:spPr>
          <a:xfrm>
            <a:off x="380880" y="411480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 estudiantes 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sta 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ver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color verde 1mc.MP3" descr=""/>
          <p:cNvPicPr/>
          <p:nvPr/>
        </p:nvPicPr>
        <p:blipFill>
          <a:blip r:embed="rId4"/>
          <a:stretch/>
        </p:blipFill>
        <p:spPr>
          <a:xfrm>
            <a:off x="0" y="43434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41" name="TextBox 9"/>
          <p:cNvSpPr/>
          <p:nvPr/>
        </p:nvSpPr>
        <p:spPr>
          <a:xfrm>
            <a:off x="380880" y="541008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estudiante 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sta neg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color negro 1mc.MP3" descr=""/>
          <p:cNvPicPr/>
          <p:nvPr/>
        </p:nvPicPr>
        <p:blipFill>
          <a:blip r:embed="rId5"/>
          <a:stretch/>
        </p:blipFill>
        <p:spPr>
          <a:xfrm>
            <a:off x="0" y="56386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6256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0240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3440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4"/>
          <p:cNvSpPr/>
          <p:nvPr/>
        </p:nvSpPr>
        <p:spPr>
          <a:xfrm>
            <a:off x="609480" y="266688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Bold IT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Eras Bold ITC"/>
              </a:rPr>
              <a:t>Mi  color  favorito  es _______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5"/>
          <p:cNvSpPr/>
          <p:nvPr/>
        </p:nvSpPr>
        <p:spPr>
          <a:xfrm>
            <a:off x="457200" y="762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 Rounded MT Bold"/>
              </a:rPr>
              <a:t>Loralei  en  1Mc  dice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7"/>
          <p:cNvSpPr/>
          <p:nvPr/>
        </p:nvSpPr>
        <p:spPr>
          <a:xfrm>
            <a:off x="5105520" y="2666880"/>
            <a:ext cx="37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Bold IT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Eras Bold ITC"/>
              </a:rPr>
              <a:t>Mi  color  favorito  es _______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8"/>
          <p:cNvSpPr/>
          <p:nvPr/>
        </p:nvSpPr>
        <p:spPr>
          <a:xfrm>
            <a:off x="5029200" y="762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 Rounded MT Bold"/>
              </a:rPr>
              <a:t>Lily  en  1Mc  dice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9"/>
          <p:cNvSpPr/>
          <p:nvPr/>
        </p:nvSpPr>
        <p:spPr>
          <a:xfrm>
            <a:off x="533520" y="5791320"/>
            <a:ext cx="37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Bold IT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Eras Bold ITC"/>
              </a:rPr>
              <a:t>Mi  color  favorito  es _______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0"/>
          <p:cNvSpPr/>
          <p:nvPr/>
        </p:nvSpPr>
        <p:spPr>
          <a:xfrm>
            <a:off x="5029200" y="57913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Bold IT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Eras Bold ITC"/>
              </a:rPr>
              <a:t>Mi  color  favorito  es _______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color favorito 1mc.MP3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50" name="color favorito1 - 1mc.MP3" descr=""/>
          <p:cNvPicPr/>
          <p:nvPr/>
        </p:nvPicPr>
        <p:blipFill>
          <a:blip r:embed="rId2"/>
          <a:stretch/>
        </p:blipFill>
        <p:spPr>
          <a:xfrm>
            <a:off x="6019920" y="15238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251" name="color favorito rojo ahser 1m.MP3" descr=""/>
          <p:cNvPicPr/>
          <p:nvPr/>
        </p:nvPicPr>
        <p:blipFill>
          <a:blip r:embed="rId3"/>
          <a:stretch/>
        </p:blipFill>
        <p:spPr>
          <a:xfrm>
            <a:off x="1600200" y="44956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52" name="TextBox 5"/>
          <p:cNvSpPr/>
          <p:nvPr/>
        </p:nvSpPr>
        <p:spPr>
          <a:xfrm>
            <a:off x="457200" y="3809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Asher en  1M  dice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color favorito rojo jack 1m.MP3" descr=""/>
          <p:cNvPicPr/>
          <p:nvPr/>
        </p:nvPicPr>
        <p:blipFill>
          <a:blip r:embed="rId4"/>
          <a:stretch/>
        </p:blipFill>
        <p:spPr>
          <a:xfrm>
            <a:off x="6248520" y="457200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254" name="TextBox 5"/>
          <p:cNvSpPr/>
          <p:nvPr/>
        </p:nvSpPr>
        <p:spPr>
          <a:xfrm>
            <a:off x="4572000" y="38862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495c"/>
                </a:solidFill>
                <a:latin typeface="Arial Rounded MT Bold"/>
              </a:rPr>
              <a:t>Jack Se en  1M  dice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1189080" y="2160"/>
            <a:ext cx="654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Bodoni MT Black"/>
                <a:ea typeface="Calibri"/>
              </a:rPr>
              <a:t>¿Cuál es tu color favorito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7680" fill="hold"/>
                                        <p:tgtEl>
                                          <p:spTgt spid="2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8064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8576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5768" fill="hold"/>
                                        <p:tgtEl>
                                          <p:spTgt spid="2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822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00000"/>
                </a:solidFill>
                <a:latin typeface="Verdana"/>
              </a:rPr>
              <a:t>GRACIAS  POR  ESCUCHAR!!</a:t>
            </a:r>
            <a:endParaRPr b="1" lang="en-US" sz="6600" spc="-1" strike="noStrike">
              <a:solidFill>
                <a:srgbClr val="4885e9"/>
              </a:solidFill>
              <a:latin typeface="Verdana"/>
            </a:endParaRPr>
          </a:p>
        </p:txBody>
      </p:sp>
      <p:pic>
        <p:nvPicPr>
          <p:cNvPr id="257" name="Picture 3" descr="C:\Documents and Settings\mfama\Local Settings\Temporary Internet Files\Content.IE5\MAFC28U2\MP900399215[1].jpg"/>
          <p:cNvPicPr/>
          <p:nvPr/>
        </p:nvPicPr>
        <p:blipFill>
          <a:blip r:embed="rId1"/>
          <a:stretch/>
        </p:blipFill>
        <p:spPr>
          <a:xfrm>
            <a:off x="5715000" y="2133720"/>
            <a:ext cx="2590920" cy="25905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C:\Documents and Settings\mfama\Local Settings\Temporary Internet Files\Content.IE5\MAFC28U2\MC900439849[1].wmf"/>
          <p:cNvPicPr/>
          <p:nvPr/>
        </p:nvPicPr>
        <p:blipFill>
          <a:blip r:embed="rId2"/>
          <a:stretch/>
        </p:blipFill>
        <p:spPr>
          <a:xfrm>
            <a:off x="914400" y="2209680"/>
            <a:ext cx="2403360" cy="2067120"/>
          </a:xfrm>
          <a:prstGeom prst="rect">
            <a:avLst/>
          </a:prstGeom>
          <a:ln w="0">
            <a:noFill/>
          </a:ln>
        </p:spPr>
      </p:pic>
      <p:sp>
        <p:nvSpPr>
          <p:cNvPr id="259" name="TextBox 6"/>
          <p:cNvSpPr/>
          <p:nvPr/>
        </p:nvSpPr>
        <p:spPr>
          <a:xfrm>
            <a:off x="1143000" y="4724280"/>
            <a:ext cx="7010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b0f0"/>
                </a:solidFill>
                <a:latin typeface="Goudy Stout"/>
              </a:rPr>
              <a:t>ADIO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6" descr="C:\Documents and Settings\mfama\Local Settings\Temporary Internet Files\Content.IE5\MGRAVFZT\MC900434918[1].png"/>
          <p:cNvPicPr/>
          <p:nvPr/>
        </p:nvPicPr>
        <p:blipFill>
          <a:blip r:embed="rId3"/>
          <a:stretch/>
        </p:blipFill>
        <p:spPr>
          <a:xfrm rot="20584800">
            <a:off x="74160" y="5287680"/>
            <a:ext cx="1995480" cy="19954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C:\Documents and Settings\mfama\Local Settings\Temporary Internet Files\Content.IE5\KGR07S7Z\MC900104844[1].wmf"/>
          <p:cNvPicPr/>
          <p:nvPr/>
        </p:nvPicPr>
        <p:blipFill>
          <a:blip r:embed="rId4"/>
          <a:stretch/>
        </p:blipFill>
        <p:spPr>
          <a:xfrm rot="443400">
            <a:off x="6933960" y="5810040"/>
            <a:ext cx="1819080" cy="8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6:49:12Z</dcterms:created>
  <dc:creator>Tech</dc:creator>
  <dc:description/>
  <dc:language>en-US</dc:language>
  <cp:lastModifiedBy>Tech</cp:lastModifiedBy>
  <dcterms:modified xsi:type="dcterms:W3CDTF">2011-11-22T13:32:43Z</dcterms:modified>
  <cp:revision>10</cp:revision>
  <dc:subject/>
  <dc:title>Slide 1</dc:title>
</cp:coreProperties>
</file>